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DD92-1691-4315-94C5-8CC7CF628B9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792F-BAE6-4DE4-8D7F-BE673E83E2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074C-A88C-413A-9450-5220BB79ED2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483B-B040-48E3-B319-5A3DAA652F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E7AD-B889-43F3-A79C-F587FEF208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6233-A47E-4C01-8A78-51E5FCF524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6652-1844-4339-965A-3C9526DE69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D7C3-73DD-446B-BB7F-3B1B2B122A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A276-15C4-4940-A686-22A52CC29A5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69BC-CA61-4347-A266-2F8E21AADE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DCAA-C329-4A59-A0BA-AA9C4AEE7E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BBEC-0BB3-4B55-8265-44939B25FCB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A8CC-8318-4D0C-ACBD-EAAEEEDC95D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5C65-9E99-498D-9AF0-DADC0FE490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CEDB-417A-41E5-9BB3-C3C51C7DA5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A365-D00C-402B-A4E9-C3C2D51401B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4F5A-4F95-40BC-A7D3-A6484E76361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FF44-A9F3-4FDD-BE29-BFAF217BDE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8E82-827F-4B98-B05E-C161891021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4ECA-6159-4B4C-9FB0-0F996AB4B9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EADE-AB21-40F0-8375-3F050FD0E7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AD25-CB0D-4A90-B711-42A1194751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9FF6-E853-4040-A724-05705E6144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B300-7550-4657-99D5-F4F84A1478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5D4D-1D3E-4597-A3E9-045C1E1880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44C4-3ECF-42EF-BE8C-1DB35FF81D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0D09-7FC1-4B29-B4D9-4C37DA8FC6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432A-7D2F-4E6D-AF98-BB2D3CA49BF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73BE-8460-491C-9D55-7FA2D1BB4A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358C-B125-4102-9C38-1248B4CF01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4E4A-E199-4CEB-98AE-27CFAE8A52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E161-8BCC-4F1F-9254-ED05786C43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801F-5A1D-4F2A-B06E-743DD7AA57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FD75-5442-4D62-8835-24C1F8BE38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719B-0D8C-4175-84B3-25582CEDAA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33DF-0A55-4EB3-BDE8-7C0D375EAD2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FA85-8767-4E84-A3A1-06BD741388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C3B1-9DEF-4DC0-B39A-08BF4600D4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919E-2704-4B43-9462-C844A15DA5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C51D-6F0F-4337-B7EA-C484306BBD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14B9-96CB-479B-A144-CE08352736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41F5-68BA-4503-BB1D-2EB16060E4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ACA-C4DC-4BA5-8C52-3F9E8D5F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DE9-DF37-48B9-B2B2-E21E4C51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04F-7D4D-4F0E-9091-A85E19F9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906-A693-4F72-82E6-F1024733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823-5781-4694-923D-323827F3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7EA-B7ED-464F-A76F-609B869F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928-7D1C-4E40-98E1-8EEB95E8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4E0-2C55-45E2-9285-C46C2CCE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94B-C2AA-4583-8404-3559E7F9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4DB-72B7-4BBF-834F-5E8C8BAA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E03-895A-4534-AE6B-723094C3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9DB-ECB4-4BDA-850E-88A0F5A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AB96-D15A-4B20-98E4-2A96A9F4B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Formularz%20OO&#346;-nowa%20wersja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714240" y="1571760"/>
            <a:ext cx="81010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Ocena oddziaływania na środowisko dla projektów współfinansowanych 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w ramach 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Regionalnego Programu Operacyjnego 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Województwa Kujawsko-Pomorskiego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na lata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428840" y="4286160"/>
            <a:ext cx="6786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ia Manel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ząd Marszałkowski Województwa Kujawsko-Pomorski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ament Wdrażania Regionalnego Programu Oper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dział Wyboru Proje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uro Oceny Formalnej Proje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28760" y="16430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3 października 2008 r. o udostępnianiu informacji  o środowisku  i jego ochronie, udziale społeczeństwa ochronie środowiska oraz ocenach oddziaływania na środowisko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. U. Nr 199, poz. 1227) </a:t>
            </a:r>
            <a:r>
              <a:rPr b="0" i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(dalej: ustawa OOŚ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7 kwietnia 2001 r. - Prawo ochrony środowiska (Dz. U. 08. 25. 150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16 kwietnia 2004 r. o ochronie przyrody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4. 92.880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7 lipca 1994 r. - Prawo budowlane (Dz. U. 06. 156. 1118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7 marca 2003 r. o planowaniu i zagospodarowaniu przestrzennym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3. 80.717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4 lutego 1994 r. - Prawo geologiczne i górnicze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5. 228.1947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18 lipca 2001 r. – Prawo wodne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5. 239. 2019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6 marca 1982 r. o scalaniu i wymianie gruntów (Dz. U. 03. 178. 1749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8 września 1991 r. o lasach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5. 45. 435, z późn. zm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10 kwietnia 2003 r. o szczególnych zasadach przygotowania i realizacji inwestycji w zakresie dróg publicznych (Dz. U. 80. 721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8 marca 2003 r. o transporcie kolejowym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7.16. 94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7 października 1994 r. o autostradach płatnych oraz o Krajowym Funduszu Drogowym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4. 256. 2571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7 września 2007 r. o przygotowaniu finałowego turnieju Mistrzostw Europy w Piłce Nożnej UEFA EURO 2012 (Dz. U. 173.1219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1 marca 1991 r. o obszarach morskich Rzeczypospolitej Polskiej i administracji morskiej (Dz. U. 03.153.1502, z późn. zm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42960" y="1500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kty wykonawcze związane z przeprowadzaniem postępowań Ocen Oddziaływania na Środowi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714240" y="2714760"/>
            <a:ext cx="8215560" cy="27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361800"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ządzenie Rady Ministrów w sprawie rodzajów przedsięwzięć mogących znacząco oddziaływać na środowisko oraz szczegółowych uwarunkowań związanych z kwalifikowaniem przedsięwzięcia do sporządzania raportu oddziaływania na środowisko z dnia 9 listopada 2004r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zmienione 10. 05. 2005 r. i 21. 08. 2007 r.); (Rozporządzenie OO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14240" y="2000160"/>
            <a:ext cx="821556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18. 06. 2007 r. w sprawie określenia wzoru publicznie dostępnego wykazu danych o dokumentach zawierających informacje o środowisku i jego ochroni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31. 07. 2002 r. w sprawie określenia szczegółowego sposobu funkcjonowania Krajowej Komisji do Spraw Ocen Oddziaływania na Środowisko oraz wojewódzkich komisji do spraw ocen oddziaływania na środowisk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16. 05. 2005 r. w sprawie typów siedlisk przyrodniczych oraz gatunków roślin i zwierząt, wymagających ochrony w formie wyznaczenia obszarów Natura 2000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21. 07. 2004 r. w sprawie obszarów specjalnej ochrony ptaków Natura 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zmienione rozporządzeniem z dnia 05. 09. 2007 r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42960" y="328608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STĘPOWANIE W SPRAWIE OOŚ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785880" y="1643040"/>
            <a:ext cx="835812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eny oddziaływania wymagają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8"/>
          <p:cNvGrpSpPr/>
          <p:nvPr/>
        </p:nvGrpSpPr>
        <p:grpSpPr>
          <a:xfrm>
            <a:off x="857160" y="1928880"/>
            <a:ext cx="8001000" cy="4295880"/>
            <a:chOff x="857160" y="1928880"/>
            <a:chExt cx="8001000" cy="4295880"/>
          </a:xfrm>
        </p:grpSpPr>
        <p:sp>
          <p:nvSpPr>
            <p:cNvPr id="140" name="Rectangle 25"/>
            <p:cNvSpPr/>
            <p:nvPr/>
          </p:nvSpPr>
          <p:spPr>
            <a:xfrm>
              <a:off x="857160" y="1928880"/>
              <a:ext cx="4938480" cy="14810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kty dokumentów z zakresu zagospodarowan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zestrzenneg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kty polityk, strategii, planów i programów sektorowych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kty dokumentów innych niż ww., których realizacja moż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wodować znaczące oddziaływanie  na obszar Natura 200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9"/>
            <p:cNvSpPr/>
            <p:nvPr/>
          </p:nvSpPr>
          <p:spPr>
            <a:xfrm>
              <a:off x="857160" y="3611520"/>
              <a:ext cx="4938480" cy="134748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owane przedsięwzięcia mogące 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zawsze znacząco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ddziaływać na środowisko (I grupa)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owane przedsięwzięcia mogące 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otencjalnie znacząco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ddziaływać na środowisko, jeżeli stwierdzony zostani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owiązek przeprowadzenia oceny oddziaływan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 środowisko (II grupa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4"/>
            <p:cNvSpPr/>
            <p:nvPr/>
          </p:nvSpPr>
          <p:spPr>
            <a:xfrm>
              <a:off x="857160" y="5227560"/>
              <a:ext cx="4938480" cy="9421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owane przedsięwzięcia inne niż wymienione wyżej (grupa I i II)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eżeli mogą znacząco oddziaływać  na obszar Natura  2000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nie są bezpośrednio związane z ochroną tego obsza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ub nie wynikają z tej ochron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2"/>
            <p:cNvSpPr/>
            <p:nvPr/>
          </p:nvSpPr>
          <p:spPr>
            <a:xfrm>
              <a:off x="6925320" y="2142360"/>
              <a:ext cx="1931040" cy="107568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iczna  oce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ddziaływania 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rodowisk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3"/>
            <p:cNvSpPr/>
            <p:nvPr/>
          </p:nvSpPr>
          <p:spPr>
            <a:xfrm>
              <a:off x="6925320" y="3611520"/>
              <a:ext cx="1931040" cy="1212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na oddziaływan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 środowisk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996600" y="5147640"/>
              <a:ext cx="1861560" cy="1077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na oddziaływan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zedsięwzięcia 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bszar Natura 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6"/>
            <p:cNvSpPr/>
            <p:nvPr/>
          </p:nvSpPr>
          <p:spPr>
            <a:xfrm>
              <a:off x="6144480" y="2409480"/>
              <a:ext cx="500040" cy="453960"/>
            </a:xfrm>
            <a:prstGeom prst="rightArrow">
              <a:avLst>
                <a:gd name="adj1" fmla="val 50000"/>
                <a:gd name="adj2" fmla="val 27538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215400" y="4012200"/>
              <a:ext cx="500040" cy="453960"/>
            </a:xfrm>
            <a:prstGeom prst="rightArrow">
              <a:avLst>
                <a:gd name="adj1" fmla="val 50000"/>
                <a:gd name="adj2" fmla="val 27538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6"/>
            <p:cNvSpPr/>
            <p:nvPr/>
          </p:nvSpPr>
          <p:spPr>
            <a:xfrm>
              <a:off x="6215400" y="5481360"/>
              <a:ext cx="500040" cy="453960"/>
            </a:xfrm>
            <a:prstGeom prst="rightArrow">
              <a:avLst>
                <a:gd name="adj1" fmla="val 50000"/>
                <a:gd name="adj2" fmla="val 27538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54" name="Prostokąt 10"/>
          <p:cNvSpPr/>
          <p:nvPr/>
        </p:nvSpPr>
        <p:spPr>
          <a:xfrm>
            <a:off x="857160" y="1785960"/>
            <a:ext cx="8072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edsięwzięci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ierzenie budowla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b inna ingerencja w środowisko polegająca na przekształceniu lub zmianie sposobu wykorzystania terenu, w tym również na wydobywaniu kopa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sięwzięcia powiązane technologicznie kwalifikuje się jako jedno przedsięwzięcie, także jeżeli są one realizowane etapowo lub/i przez róż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42960" y="178596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cena oddziaływania przedsięwzięcia na środowisko to postępowanie obejmujące w szczególn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15"/>
          <p:cNvSpPr/>
          <p:nvPr/>
        </p:nvSpPr>
        <p:spPr>
          <a:xfrm>
            <a:off x="1000080" y="2714760"/>
            <a:ext cx="814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eryfikację raportu o oddziaływaniu przedsięwzięcia na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środowisko (OOŚ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zyskanie wymaganych ustawą opinii i uzgodnie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apewnienie możliwości udziału społeczeństwa w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postępowan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k powyższych elementów w postępowaniu świadczy o tym, iż OOŚ nie była prowad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67" name="Prostokąt 14"/>
          <p:cNvSpPr/>
          <p:nvPr/>
        </p:nvSpPr>
        <p:spPr>
          <a:xfrm>
            <a:off x="857160" y="18572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 ramach oceny oddziaływania przedsięwzięcia na środowisko określa się, analizuje oraz oceni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12"/>
          <p:cNvSpPr/>
          <p:nvPr/>
        </p:nvSpPr>
        <p:spPr>
          <a:xfrm>
            <a:off x="357120" y="2571840"/>
            <a:ext cx="8501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bezpośredni i pośredni wpływ danego przedsięwzięcia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środowisko oraz zdrowie i warunki życia ludz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bra material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ytk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zajemne oddziaływanie między ww. elementa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stępność do złóż kopal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ożliwości oraz sposoby zapobiegania i zmniejszania negatywnego oddziaływania przedsięwzięcia na środowisk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ymagany zakres monitoring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714240" y="178596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zeprowadzenia oceny oddziaływania na środowisko wymaga realizacja następujących planowanych przedsięwzięć mogących znacząco oddziaływać na środowisko (art. 59 ust 1.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rostokąt 9"/>
          <p:cNvSpPr/>
          <p:nvPr/>
        </p:nvSpPr>
        <p:spPr>
          <a:xfrm>
            <a:off x="785880" y="3071880"/>
            <a:ext cx="807228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owanego przedsięwzięcia mogąceg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aws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acząco oddziaływać na środowisk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 to tzw. przedsięwzięcia z grup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owanego przedsięwzięcia mogąceg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tencjal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acząco oddziaływać na środowisk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 to tzw. przedsięwzięcia z grupy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785880" y="171468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zeprowadzenia oceny oddziaływania na obszar Natura 2000 wymaga realizacja planowanego przedsięwzięcia innego niż mogące znacząco oddziaływać na środowisko jeżeli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art. 59 ust. 2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785880" y="335772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sięwzięcie to może znacząco oddziaływać na obszar Natura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, a nie jest bezpośrednio związane z ochroną tego obszar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b nie wynika z tej ochro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owiązek przeprowadzenia oceny oddziaływani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sięwzięcia na obszar Natura 2000 został zatwierdzony n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stawie art. 96 ust. 1 ustawy OO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571680" y="1500120"/>
            <a:ext cx="81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cena Oddziaływania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714240" y="2286000"/>
            <a:ext cx="842976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ena oddziaływania na środowisko (OOŚ) to proces planowania środowiskowego stanowiący podstawę zarządzani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gospodarowania zasobami przyrodniczymi w celu osiągnięcia zrównoważonego rozwoj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 ten jest wieloetapowy, zintegrowany z cyklem inwestycyjnym, polegający na określeniu potencjalnych, znaczących konsekwencji planowanych przedsięwzięć dla środowiska przyrodniczego i kulturowego, zdrowia ludzkieg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akże walorów społeczno – ekonomicznych oraz na efektywnym wykorzystywaniu zgromadzonych w jego trakcie informacji podczas podejmowania odpowiednich decyzj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781200" y="1500120"/>
            <a:ext cx="8362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jważniejsze różnice pomiędzy OOŚ a oceną oddziaływania na obszar Natura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000080" y="2286000"/>
          <a:ext cx="7929720" cy="3857760"/>
        </p:xfrm>
        <a:graphic>
          <a:graphicData uri="http://schemas.openxmlformats.org/drawingml/2006/table">
            <a:tbl>
              <a:tblPr/>
              <a:tblGrid>
                <a:gridCol w="3922920"/>
                <a:gridCol w="4006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kty z Aneksu I i II dyrektywy O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zystkie projekty i programy nie związane bezpośrednio lub potrzebne do zarządzania obszarem Natura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 wpływu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 aspekty środowiska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tura 2000 jest jednym z n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 skupia się na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znaczącym negatywnym wpływie na integralność obszaru Natura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yzja kompetentnego organu musi brać pod uwagę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ekty przedsięwzięcia na środowis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dopuszczalność zatwierdzenia projektu,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tóry ma znaczący negatywny wpływ na obszar Natura 2000, jeśli istnieją nieszkodliwe alternaty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yzję podejmuje kompetentny organ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o wzięciu pod uwagę i rozpatrzeniu wszystkich informacji zgromadzonych w postępowa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sytuacji gdy brak alternatyw, przedsięwzięcie które ma negatywny wpływ na obszar Natura 2000,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oże być zrealizowane tylko wtedy, gdy spełnione są warunki określone w art. 6.4 Dyrektywy siedliskow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upa 10"/>
          <p:cNvGrpSpPr/>
          <p:nvPr/>
        </p:nvGrpSpPr>
        <p:grpSpPr>
          <a:xfrm>
            <a:off x="642960" y="1571760"/>
            <a:ext cx="8281800" cy="4678200"/>
            <a:chOff x="642960" y="1571760"/>
            <a:chExt cx="8281800" cy="4678200"/>
          </a:xfrm>
        </p:grpSpPr>
        <p:sp>
          <p:nvSpPr>
            <p:cNvPr id="196" name="Text Box 4"/>
            <p:cNvSpPr/>
            <p:nvPr/>
          </p:nvSpPr>
          <p:spPr>
            <a:xfrm>
              <a:off x="642960" y="1571760"/>
              <a:ext cx="828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cenę oddziaływania na środowisko przeprowadza się w ramach (art. 61 ustawy OOŚ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8"/>
            <p:cNvSpPr/>
            <p:nvPr/>
          </p:nvSpPr>
          <p:spPr>
            <a:xfrm>
              <a:off x="1060560" y="2459520"/>
              <a:ext cx="3299040" cy="20653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stępowania w spraw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ydania decyzj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 środowiskowych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warunkowaniach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4890600" y="2459520"/>
              <a:ext cx="3789720" cy="20653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stępowania w sprawi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ydania pozwolenia na budowę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cyzji o zezwole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 realizację inwestycji drogowej oraz in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cyzji opisanych w art. 72 ustawy OO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eżeli została stwierdzona konieczn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zeprowadzenia OOŚ przez organ właściw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do wydania decyzji o środowiskowych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warunkowani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1060560" y="4644720"/>
              <a:ext cx="327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łaściwa OO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6"/>
            <p:cNvSpPr/>
            <p:nvPr/>
          </p:nvSpPr>
          <p:spPr>
            <a:xfrm>
              <a:off x="4890600" y="4644720"/>
              <a:ext cx="382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nowna OO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4"/>
            <p:cNvSpPr/>
            <p:nvPr/>
          </p:nvSpPr>
          <p:spPr>
            <a:xfrm>
              <a:off x="1199880" y="5669280"/>
              <a:ext cx="313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przeprowadza organ właściwy do wydania tej decyzj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5"/>
            <p:cNvSpPr/>
            <p:nvPr/>
          </p:nvSpPr>
          <p:spPr>
            <a:xfrm>
              <a:off x="4960440" y="5669280"/>
              <a:ext cx="36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przeprowadza Regionalny Dyrektor Ochrony Środowi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AutoShape 22"/>
            <p:cNvGrpSpPr/>
            <p:nvPr/>
          </p:nvGrpSpPr>
          <p:grpSpPr>
            <a:xfrm>
              <a:off x="6602040" y="2103120"/>
              <a:ext cx="329040" cy="359640"/>
              <a:chOff x="6602040" y="2103120"/>
              <a:chExt cx="329040" cy="359640"/>
            </a:xfrm>
          </p:grpSpPr>
          <p:pic>
            <p:nvPicPr>
              <p:cNvPr id="204" name="AutoShap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6602040" y="2103120"/>
                <a:ext cx="32904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6707520" y="2117880"/>
                <a:ext cx="11448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AutoShape 22"/>
            <p:cNvSpPr/>
            <p:nvPr/>
          </p:nvSpPr>
          <p:spPr>
            <a:xfrm>
              <a:off x="6631560" y="5191200"/>
              <a:ext cx="266040" cy="332280"/>
            </a:xfrm>
            <a:prstGeom prst="downArrow">
              <a:avLst>
                <a:gd name="adj1" fmla="val 43019"/>
                <a:gd name="adj2" fmla="val 27119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AutoShape 22"/>
            <p:cNvGrpSpPr/>
            <p:nvPr/>
          </p:nvGrpSpPr>
          <p:grpSpPr>
            <a:xfrm>
              <a:off x="2493000" y="2103120"/>
              <a:ext cx="329040" cy="359640"/>
              <a:chOff x="2493000" y="2103120"/>
              <a:chExt cx="329040" cy="359640"/>
            </a:xfrm>
          </p:grpSpPr>
          <p:pic>
            <p:nvPicPr>
              <p:cNvPr id="208" name="AutoShape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3000" y="2103120"/>
                <a:ext cx="32904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598480" y="2117880"/>
                <a:ext cx="11448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AutoShape 22"/>
            <p:cNvSpPr/>
            <p:nvPr/>
          </p:nvSpPr>
          <p:spPr>
            <a:xfrm>
              <a:off x="2522880" y="5122800"/>
              <a:ext cx="266040" cy="332280"/>
            </a:xfrm>
            <a:prstGeom prst="downArrow">
              <a:avLst>
                <a:gd name="adj1" fmla="val 43019"/>
                <a:gd name="adj2" fmla="val 27119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714240" y="1500120"/>
            <a:ext cx="8215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Uzyskanie decyzji o środowiskowych uwarunkowaniach  realizacji przedsięwzięcia wymagane jest dla (art. 71 ust. 2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owanych przedsięwzięć mogących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wsze znacząc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ddziaływać na   środowisko (grupa I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owanych przedsięwzięć mogących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otencjalnie znacząc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ddziaływać na  środowisko (grupa I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Wydanie decyzji o środowiskowych uwarunkowaniach następuje przed uzyskaniem decyzji inwestycyjnych (art. 72 ust. 1, pkt 1-13 ustawy OOŚ) m.in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pozwoleniu  na budowę, decyzji o zatwierdzeniu projektu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udowlanego oraz   decyzji o pozwoleniu na wznowienie robót budowla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warunkach zabudowy i zagospodarowania teren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zezwoleniu na realizację  inwestycji drog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ustaleniu lokalizacji linii kolej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ustaleniu lokalizacji autostr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22" name="Prostokąt 12"/>
          <p:cNvSpPr/>
          <p:nvPr/>
        </p:nvSpPr>
        <p:spPr>
          <a:xfrm>
            <a:off x="857160" y="150012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onowne przeprowadzenie oceny oddziaływania przedsięwzięcia na środowisko (art. 88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rostokąt 7"/>
          <p:cNvSpPr/>
          <p:nvPr/>
        </p:nvSpPr>
        <p:spPr>
          <a:xfrm>
            <a:off x="857160" y="2214720"/>
            <a:ext cx="82868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eczność przeprowadzenia ponownej  oceny oddziaływania na środowisko dla przedsięwzięć z grupy I i II, wymagającyc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pozwoleniu na budow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zezwoleniu na realizację inwestycji drogowe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zeprowadza si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 wniosek podmiotu planującego podjęcie realizacji przedsięwzięcia, złożony do organu właściwego do wydania decyzji budowla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żeli konieczność przeprowadzenia OOŚ została stwierdzona przez organ właściwy do wydania decyzji o środowiskowych uwarunkowania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żeli organ właściwy do wydania decyzji budowlanej stwierdzi, że we wniosku o wydanie decyzji zostały dokonane zmiany w stosunku do wymagań określonych w decyzji o środowiskowych uwarunkowaniach – w tym wypadku organ postanowieniem stwierdza obowiązek sporządzenia raportu OOŚ, jednocześnie określając zakres tego rapor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nę oddziaływania na środowisko, stanowiącą część postępowania w sprawie wydani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 pozwoleniu na budow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zezwoleniu na realizację inwestycji drogowe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zeprowadz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DO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647640" y="1285920"/>
            <a:ext cx="8496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rgany właściwe do wydania decyzji o środowiskowych uwarunkowaniach (art. 75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rostokąt 7"/>
          <p:cNvSpPr/>
          <p:nvPr/>
        </p:nvSpPr>
        <p:spPr>
          <a:xfrm>
            <a:off x="714240" y="2000160"/>
            <a:ext cx="82155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1. regionalny dyrektor ochrony środowiska (RDOŚ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przedsięwzięć należących do grupy I, takich jak: drogi, linie kolejowe, napowietrzne linie elektorenergetyczne, instalacje do przesyłu ropy naftowej, produktów naftowych, substancji chemicznych lub gazu, sztuczne zbiorniki wod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przedsięwzięć realizowanych na terenach zamknięt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przedsięwzięć realizowanych na obszarach morski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lasu, niestanowiącego własność Skarbu Państwa, na użytek rol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098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starost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calania, wymiany lub podziału gru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3300"/>
                </a:solidFill>
                <a:latin typeface="Arial"/>
              </a:rPr>
              <a:t>3. d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yrektor regionalnej dyrekcji lasów państwowych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zmiany lasu, stanowiącego własność Skarbu Państwa, na użytek roln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4. wójt, burmistrz, prezydent mia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pozostałych przedsięwzię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647640" y="164304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łaściwości organ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14240" y="1857240"/>
            <a:ext cx="821556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że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la którego do wydania decyzji o środowiskowych uwarunkowaniach właściwy jest wójt, burmistrz, prezydent miast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st realizowane przez gmin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ganem właściwym do wydania decyzji o środowiskowych uwarunkowaniach jest wójt, burmistrz, prezydent miasta, na którego obszarze właściwości przedsięwzięcie jest realizow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a wykraczającego poza obszar jednego województw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decyzję o środowiskowych uwarunkowaniach wydaje RDOŚ, na którego obszarze właściwości znajduje się największa część terenu, na którym ma być realizowane przedsięwzięcie, w porozumieniu z zainteresowanymi RDO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857160" y="15001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łaściwości organ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14240" y="2071800"/>
            <a:ext cx="82155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a  wykraczającego poza obszar jednej gm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cyzję o środowiskowych uwarunkowaniach wydaje wójt, burmistrz, prezydent miasta, na którego obszarze właściwości znajduje się największa część terenu, na którym ma być realizowane przedsięwzięci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orozumieniu z zainteresowanymi wójtami, burmistrzami, prezydentami mi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a realizowanego w części na terenie zamknięty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la całego przedsięwzięcia decyzję o środowiskowych uwarunkowaniach wydaje RDO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5"/>
          <p:cNvSpPr/>
          <p:nvPr/>
        </p:nvSpPr>
        <p:spPr>
          <a:xfrm>
            <a:off x="785880" y="1571760"/>
            <a:ext cx="835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Wydawanie decyzji o środowiskowych uwarunkowaniach dla dróg lub linii kolejowych, napowietrznych linii elektroenergetycznych, sztucznych zbiorników wodnych, instalacji do przesyłu ropy naftowej, produktów naftowych, substancji chemicznych lub gazu, będących przedsięwzięciami mogącymi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zawsze znacząco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oddziaływać na środowisko (grupa I) do wydania których właściwy jest Regionalny Dyrektor ochrony Środowi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upa 9"/>
          <p:cNvGrpSpPr/>
          <p:nvPr/>
        </p:nvGrpSpPr>
        <p:grpSpPr>
          <a:xfrm>
            <a:off x="928800" y="3214800"/>
            <a:ext cx="7643880" cy="3214440"/>
            <a:chOff x="928800" y="3214800"/>
            <a:chExt cx="7643880" cy="3214440"/>
          </a:xfrm>
        </p:grpSpPr>
        <p:sp>
          <p:nvSpPr>
            <p:cNvPr id="252" name="AutoShape 16"/>
            <p:cNvSpPr/>
            <p:nvPr/>
          </p:nvSpPr>
          <p:spPr>
            <a:xfrm>
              <a:off x="928800" y="3214800"/>
              <a:ext cx="3646440" cy="10310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wniosek o ustaleni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kresu raportu wraz z wnioskiem o wyd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yzji o środowiskowych uwarunkowaniach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łącza kartę informacyjną przedsięwzięci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7"/>
            <p:cNvSpPr/>
            <p:nvPr/>
          </p:nvSpPr>
          <p:spPr>
            <a:xfrm>
              <a:off x="928800" y="4572000"/>
              <a:ext cx="3669840" cy="150012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RDO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wraca się o opinię co do zakresu raport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 wojewódzkiego inspektora sanitarneg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)    wydaje postanowienie, w którym okreś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akres raportu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)    zawiesza  postępowanie do czas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zedłożenia rapor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Łącznik prosty 12"/>
            <p:cNvSpPr/>
            <p:nvPr/>
          </p:nvSpPr>
          <p:spPr>
            <a:xfrm>
              <a:off x="2751840" y="4245840"/>
              <a:ext cx="11520" cy="32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Łącznik prosty 13"/>
            <p:cNvSpPr/>
            <p:nvPr/>
          </p:nvSpPr>
          <p:spPr>
            <a:xfrm flipH="1">
              <a:off x="2751840" y="6072120"/>
              <a:ext cx="11520" cy="3571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Łącznik prosty 14"/>
            <p:cNvSpPr/>
            <p:nvPr/>
          </p:nvSpPr>
          <p:spPr>
            <a:xfrm>
              <a:off x="6796080" y="4185000"/>
              <a:ext cx="23040" cy="218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8"/>
            <p:cNvSpPr/>
            <p:nvPr/>
          </p:nvSpPr>
          <p:spPr>
            <a:xfrm>
              <a:off x="4926240" y="3214800"/>
              <a:ext cx="3646440" cy="970200"/>
            </a:xfrm>
            <a:prstGeom prst="flowChartProcess">
              <a:avLst/>
            </a:prstGeom>
            <a:gradFill rotWithShape="0">
              <a:gsLst>
                <a:gs pos="0">
                  <a:srgbClr val="f5960b"/>
                </a:gs>
                <a:gs pos="100000">
                  <a:srgbClr val="f9bf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wniosek o wydani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yzji o środowiskowych uwarunkowaniach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łącza raport w zakresie określony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 ustawi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263" name="Grupa 6"/>
          <p:cNvGrpSpPr/>
          <p:nvPr/>
        </p:nvGrpSpPr>
        <p:grpSpPr>
          <a:xfrm>
            <a:off x="785880" y="1714680"/>
            <a:ext cx="8358120" cy="4563720"/>
            <a:chOff x="785880" y="1714680"/>
            <a:chExt cx="8358120" cy="4563720"/>
          </a:xfrm>
        </p:grpSpPr>
        <p:sp>
          <p:nvSpPr>
            <p:cNvPr id="264" name="AutoShape 15"/>
            <p:cNvSpPr/>
            <p:nvPr/>
          </p:nvSpPr>
          <p:spPr>
            <a:xfrm>
              <a:off x="956520" y="2283480"/>
              <a:ext cx="3830040" cy="78336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kłada RDOŚ raport w zakres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godnym z postanowienie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9"/>
            <p:cNvSpPr/>
            <p:nvPr/>
          </p:nvSpPr>
          <p:spPr>
            <a:xfrm>
              <a:off x="785880" y="3643200"/>
              <a:ext cx="8358120" cy="2635200"/>
            </a:xfrm>
            <a:prstGeom prst="rect">
              <a:avLst/>
            </a:prstGeom>
            <a:gradFill rotWithShape="0">
              <a:gsLst>
                <a:gs pos="0">
                  <a:srgbClr val="f5960b"/>
                </a:gs>
                <a:gs pos="100000">
                  <a:srgbClr val="fbd69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RDO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1)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sięwzięcia i o możliwości zapoznania się z dokumentacją, składania uwag i wniosk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az otwartej rozprawie dla społeczeństwa, jeżeli miała być przeprowadzon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o opinię do wojewódzkiego inspektora sanitarneg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zpatruje zgromadzony materiał dowodowy i wydaje decyzję o środowiskowych uwarunkowaniach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 której także przedstawia stanowisko co  do konieczności przeprowadzenia ponownej ocen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ddziaływania na  środowisk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)    podaje do publicznej wiadomości informację 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Łącznik prosty 9"/>
            <p:cNvSpPr/>
            <p:nvPr/>
          </p:nvSpPr>
          <p:spPr>
            <a:xfrm flipH="1">
              <a:off x="6751080" y="1714680"/>
              <a:ext cx="1440" cy="193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Łącznik prosty 10"/>
            <p:cNvSpPr/>
            <p:nvPr/>
          </p:nvSpPr>
          <p:spPr>
            <a:xfrm flipH="1">
              <a:off x="2889720" y="1780560"/>
              <a:ext cx="1440" cy="50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Łącznik prosty 11"/>
            <p:cNvSpPr/>
            <p:nvPr/>
          </p:nvSpPr>
          <p:spPr>
            <a:xfrm flipH="1">
              <a:off x="2889720" y="3049200"/>
              <a:ext cx="1440" cy="600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6"/>
          <p:cNvSpPr/>
          <p:nvPr/>
        </p:nvSpPr>
        <p:spPr>
          <a:xfrm>
            <a:off x="822240" y="150012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awanie decyzji o środowiskowych uwarunkowaniach dla przedsięwzięć mogących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zawsze znacząco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oddziaływać na środowisko (grupa I) do wydania których właściwy jest wójt, burmistrz lub prezydent mi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upa 7"/>
          <p:cNvGrpSpPr/>
          <p:nvPr/>
        </p:nvGrpSpPr>
        <p:grpSpPr>
          <a:xfrm>
            <a:off x="857160" y="2786040"/>
            <a:ext cx="8001000" cy="3714840"/>
            <a:chOff x="857160" y="2786040"/>
            <a:chExt cx="8001000" cy="3714840"/>
          </a:xfrm>
        </p:grpSpPr>
        <p:sp>
          <p:nvSpPr>
            <p:cNvPr id="276" name="AutoShape 17"/>
            <p:cNvSpPr/>
            <p:nvPr/>
          </p:nvSpPr>
          <p:spPr>
            <a:xfrm>
              <a:off x="930960" y="2810160"/>
              <a:ext cx="3548160" cy="134208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kłada wójtowi, burmistrzowi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ub prezydentowi miast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niosek o ustalenie zakresu raport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raz z wnioskiem o wydanie decyzji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 środowiskowych uwarunkowaniach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ałącza kartę informacyjną przedsięwzięcia</a:t>
              </a: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AutoShape 20"/>
            <p:cNvGrpSpPr/>
            <p:nvPr/>
          </p:nvGrpSpPr>
          <p:grpSpPr>
            <a:xfrm>
              <a:off x="5196240" y="2786040"/>
              <a:ext cx="3661920" cy="1386720"/>
              <a:chOff x="5196240" y="2786040"/>
              <a:chExt cx="3661920" cy="1386720"/>
            </a:xfrm>
          </p:grpSpPr>
          <p:pic>
            <p:nvPicPr>
              <p:cNvPr id="278" name="AutoShap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5196240" y="2786040"/>
                <a:ext cx="3661920" cy="138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5218200" y="2810160"/>
                <a:ext cx="3622320" cy="13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990000"/>
                    </a:solidFill>
                    <a:latin typeface="Arial"/>
                  </a:rPr>
                  <a:t>Inwestor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rzedstawia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ójtowi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burmistrzowi lub prezydentowi miast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niosek o wydanie decyzji o środowiskowych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warunkowaniach.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Załącza raport w zakresie określonym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 ustawie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AutoShape 18"/>
            <p:cNvSpPr/>
            <p:nvPr/>
          </p:nvSpPr>
          <p:spPr>
            <a:xfrm>
              <a:off x="857160" y="4555080"/>
              <a:ext cx="3621960" cy="15746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0000"/>
                  </a:solidFill>
                  <a:latin typeface="Arial"/>
                </a:rPr>
                <a:t>Wójt, burmistrz, prezydent miast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wraca się o opinię co do zakresu raport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 RDOŚ i powiatowego inspektor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anitarnego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)    wydaje postanowienie, w którym określ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akres raportu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)    zawiesza  postępowanie do czas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zedłożenia raportu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Łącznik prosty 11"/>
            <p:cNvSpPr/>
            <p:nvPr/>
          </p:nvSpPr>
          <p:spPr>
            <a:xfrm flipH="1">
              <a:off x="7066800" y="4152960"/>
              <a:ext cx="720" cy="228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Łącznik prosty 12"/>
            <p:cNvSpPr/>
            <p:nvPr/>
          </p:nvSpPr>
          <p:spPr>
            <a:xfrm flipH="1">
              <a:off x="2631240" y="4152240"/>
              <a:ext cx="24480" cy="393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Łącznik prosty 13"/>
            <p:cNvSpPr/>
            <p:nvPr/>
          </p:nvSpPr>
          <p:spPr>
            <a:xfrm>
              <a:off x="2631240" y="61653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571680" y="1500120"/>
            <a:ext cx="81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cena Oddziaływania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14240" y="2143080"/>
            <a:ext cx="842976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892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prawnym instrumentem ochrony środowis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prewencyjnym instrumentem ochrony środowiska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pomagającym proces podejmowania decyzji 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niesieniu do planowanych przedsięwzięć mogącyc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wierać znaczący wpływ na środowisk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narzędziem  umożliwiającym pełną i obiektywn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yfikację możliwych zagrożeń, zmniejszający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zyko popełniania błędów, pozwalającym  chroni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soby naturalne, przeciwdziałać degradacji środowis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hronić zdrowie ludz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289" name="Grupa 14"/>
          <p:cNvGrpSpPr/>
          <p:nvPr/>
        </p:nvGrpSpPr>
        <p:grpSpPr>
          <a:xfrm>
            <a:off x="857160" y="1643040"/>
            <a:ext cx="8091720" cy="4532400"/>
            <a:chOff x="857160" y="1643040"/>
            <a:chExt cx="8091720" cy="4532400"/>
          </a:xfrm>
        </p:grpSpPr>
        <p:sp>
          <p:nvSpPr>
            <p:cNvPr id="290" name="AutoShape 21"/>
            <p:cNvSpPr/>
            <p:nvPr/>
          </p:nvSpPr>
          <p:spPr>
            <a:xfrm>
              <a:off x="1135440" y="2304360"/>
              <a:ext cx="3934440" cy="77688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kłada wójtowi, burmistrzowi lub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zydentowi miasta raport w zakresie zgodny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 postanowienie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5"/>
            <p:cNvSpPr/>
            <p:nvPr/>
          </p:nvSpPr>
          <p:spPr>
            <a:xfrm>
              <a:off x="857160" y="3562200"/>
              <a:ext cx="8091720" cy="2613240"/>
            </a:xfrm>
            <a:prstGeom prst="rect">
              <a:avLst/>
            </a:prstGeom>
            <a:gradFill rotWithShape="0">
              <a:gsLst>
                <a:gs pos="0">
                  <a:srgbClr val="f5960b"/>
                </a:gs>
                <a:gs pos="100000">
                  <a:srgbClr val="fcdfb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Wójt, burmistrz, prezydent mia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1)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sięwzięcia i o możliwości zapoznania się z dokumentacją, składania uwag i wniosk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az otwartej rozprawie dla społeczeństwa, jeżeli miała być przeprowadzon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o uzgodnienie warunków realizacji przedsięwzięcia do RDOŚ i o opinię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powiatowego inspektora sanitarneg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zpatruje zgromadzony materiał dowodowy i wydaje decyzję o środowiskowyc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warunkowaniach, w której także przedstawia stanowisko co  do konieczn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prowadzenia ponownej oceny oddziaływania na  środowisk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)    podaje do publicznej wiadomości informację 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Łącznik prosty 17"/>
            <p:cNvSpPr/>
            <p:nvPr/>
          </p:nvSpPr>
          <p:spPr>
            <a:xfrm flipH="1">
              <a:off x="6841800" y="1643040"/>
              <a:ext cx="1440" cy="191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Łącznik prosty 18"/>
            <p:cNvSpPr/>
            <p:nvPr/>
          </p:nvSpPr>
          <p:spPr>
            <a:xfrm>
              <a:off x="3083400" y="1774440"/>
              <a:ext cx="18360" cy="529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Łącznik prosty 19"/>
            <p:cNvSpPr/>
            <p:nvPr/>
          </p:nvSpPr>
          <p:spPr>
            <a:xfrm flipH="1">
              <a:off x="3102120" y="3081960"/>
              <a:ext cx="1440" cy="480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6"/>
          <p:cNvSpPr/>
          <p:nvPr/>
        </p:nvSpPr>
        <p:spPr>
          <a:xfrm>
            <a:off x="785880" y="1357200"/>
            <a:ext cx="81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OŚ w ramach postępowania  w sprawie wydania decyzji o środowiskowych uwarunkowaniach dla przedsięwzięć mogących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potencjalnie znacząco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oddziaływać na środowisko (grupa 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upa 7"/>
          <p:cNvGrpSpPr/>
          <p:nvPr/>
        </p:nvGrpSpPr>
        <p:grpSpPr>
          <a:xfrm>
            <a:off x="857160" y="2428920"/>
            <a:ext cx="8143920" cy="4083480"/>
            <a:chOff x="857160" y="2428920"/>
            <a:chExt cx="8143920" cy="4083480"/>
          </a:xfrm>
        </p:grpSpPr>
        <p:sp>
          <p:nvSpPr>
            <p:cNvPr id="302" name="AutoShape 15"/>
            <p:cNvSpPr/>
            <p:nvPr/>
          </p:nvSpPr>
          <p:spPr>
            <a:xfrm>
              <a:off x="857160" y="2428920"/>
              <a:ext cx="7315200" cy="91440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wójtowi, burmistrzowi lub prezydentowi miasta wniosek o wydanie decyzj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 środowiskowych uwarunkowaniach. Załącza kartę informacyjną przedsięwzięcia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Łącznik prosty 9"/>
            <p:cNvSpPr/>
            <p:nvPr/>
          </p:nvSpPr>
          <p:spPr>
            <a:xfrm flipH="1">
              <a:off x="4500000" y="3343320"/>
              <a:ext cx="1404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Prostokąt 10"/>
            <p:cNvSpPr/>
            <p:nvPr/>
          </p:nvSpPr>
          <p:spPr>
            <a:xfrm>
              <a:off x="7429680" y="4500720"/>
              <a:ext cx="15714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SCREE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łuży stwierdzeniu przez właściwy organ, czy przeprowadzenie OOŚ dla planowanego przedsięwzięci jest koniecz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Łącznik prosty 11"/>
            <p:cNvSpPr/>
            <p:nvPr/>
          </p:nvSpPr>
          <p:spPr>
            <a:xfrm flipH="1">
              <a:off x="4571280" y="5144760"/>
              <a:ext cx="144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Łącznik łamany 12"/>
            <p:cNvCxnSpPr/>
            <p:nvPr/>
          </p:nvCxnSpPr>
          <p:spPr>
            <a:xfrm>
              <a:off x="2714040" y="5644080"/>
              <a:ext cx="3786840" cy="2160"/>
            </a:xfrm>
            <a:prstGeom prst="bentConnector3">
              <a:avLst>
                <a:gd name="adj1" fmla="val 49762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307" name="Text Box 22"/>
            <p:cNvSpPr/>
            <p:nvPr/>
          </p:nvSpPr>
          <p:spPr>
            <a:xfrm>
              <a:off x="2071440" y="61441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T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>
              <a:off x="5857920" y="61441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6"/>
          <p:cNvSpPr/>
          <p:nvPr/>
        </p:nvSpPr>
        <p:spPr>
          <a:xfrm>
            <a:off x="857160" y="4000680"/>
            <a:ext cx="6500880" cy="1134720"/>
          </a:xfrm>
          <a:prstGeom prst="flowChartProcess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Wójt, burmistrz, prezydent mias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wraca się do RDOŚ i powiatoweg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pektora sanitarnego o opinię co do potrzeby przeprowadzenia oce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działywania przedsięwzięcia na środowisko i ewentualnego zakresu raport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Łącznik prosty 16"/>
          <p:cNvSpPr/>
          <p:nvPr/>
        </p:nvSpPr>
        <p:spPr>
          <a:xfrm>
            <a:off x="2714760" y="5645160"/>
            <a:ext cx="0" cy="49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Łącznik prosty 17"/>
          <p:cNvSpPr/>
          <p:nvPr/>
        </p:nvSpPr>
        <p:spPr>
          <a:xfrm flipH="1">
            <a:off x="6500880" y="564372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317" name="Grupa 6"/>
          <p:cNvGrpSpPr/>
          <p:nvPr/>
        </p:nvGrpSpPr>
        <p:grpSpPr>
          <a:xfrm>
            <a:off x="714240" y="1500120"/>
            <a:ext cx="8429760" cy="4786560"/>
            <a:chOff x="714240" y="1500120"/>
            <a:chExt cx="8429760" cy="4786560"/>
          </a:xfrm>
        </p:grpSpPr>
        <p:sp>
          <p:nvSpPr>
            <p:cNvPr id="318" name="Łącznik prosty 7"/>
            <p:cNvSpPr/>
            <p:nvPr/>
          </p:nvSpPr>
          <p:spPr>
            <a:xfrm flipH="1">
              <a:off x="7286760" y="1500120"/>
              <a:ext cx="14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8"/>
            <p:cNvSpPr/>
            <p:nvPr/>
          </p:nvSpPr>
          <p:spPr>
            <a:xfrm>
              <a:off x="941040" y="1701720"/>
              <a:ext cx="3987720" cy="1352520"/>
            </a:xfrm>
            <a:prstGeom prst="rect">
              <a:avLst/>
            </a:prstGeom>
            <a:gradFill rotWithShape="0">
              <a:gsLst>
                <a:gs pos="0">
                  <a:srgbClr val="ceceef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Wójt, burmistrz, prezydent miasta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 drodz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postanowieni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stwierdza obowiązek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prowadzenia oceny oddziaływan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 środowisko dla planowanego przedsięwzięci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i określa zakres raport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na postanowienie służy zażalenie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9"/>
            <p:cNvSpPr/>
            <p:nvPr/>
          </p:nvSpPr>
          <p:spPr>
            <a:xfrm>
              <a:off x="5143320" y="1785600"/>
              <a:ext cx="4000680" cy="20635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d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Wójt, burmistrz, prezydent mi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daje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postanowieni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w którym stwierdza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k potrzeby przeprowadzania oceny 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ddziaływania tego przedsięwzięci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na  środowisk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)   wydaje decyzję o środowisk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warunkowaniach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)   podaje do publicznej wiadomości informacj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>
              <a:off x="940320" y="3351960"/>
              <a:ext cx="3988440" cy="66024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kłada raport w zakresie zgodny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 postanowienie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>
              <a:off x="714240" y="4232520"/>
              <a:ext cx="8373240" cy="20541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Wójt, burmistrz, prezydent mia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 przedsięwzięcia  i o możliwoś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apoznania się z dokumentacją, składania uwag i wniosków oraz otwartej rozprawie dla społeczeństwa, jeżeli miał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ć przeprowadzona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)     występuje o uzgodnienie warunków realizacji przedsięwzięcia do RDOŚ i o opinię do powiatowego inspekt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nitarneg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)      analizuje zgromadzony materiał dowodowy i wydaje decyzję o środowiskowych uwarunkowaniach, w które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kże przedstawia stanowisko co  do konieczności przeprowadzenia ponownej oceny oddziaływania 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środowisk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)      podaje do publicznej wiadomości informację o wydaniu decyzji o środowiskowych uwarunkowaniach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Łącznik prosty 12"/>
            <p:cNvSpPr/>
            <p:nvPr/>
          </p:nvSpPr>
          <p:spPr>
            <a:xfrm flipH="1">
              <a:off x="2920680" y="3971160"/>
              <a:ext cx="144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22"/>
          <p:cNvSpPr/>
          <p:nvPr/>
        </p:nvSpPr>
        <p:spPr>
          <a:xfrm>
            <a:off x="2143080" y="121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6643800" y="114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Łącznik prosty 15"/>
          <p:cNvSpPr/>
          <p:nvPr/>
        </p:nvSpPr>
        <p:spPr>
          <a:xfrm flipH="1">
            <a:off x="2857680" y="14288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Łącznik prosty 16"/>
          <p:cNvSpPr/>
          <p:nvPr/>
        </p:nvSpPr>
        <p:spPr>
          <a:xfrm flipH="1">
            <a:off x="2928960" y="3054240"/>
            <a:ext cx="64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857160" y="185724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ażne jest uzasadnienie postanowienia  o obowiązku lub braku obowiązku przeprowadzenia OO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857160" y="342900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zasadnienie postanowień o obowiązku przeprowadzenia OOŚ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o zakresie raportu lub o braku potrzeby przeprowadzenia OOŚ powinny zawierać informacje o uwarunkowaniach, o których mowa w art. 63 ust. 1 ustawy OOŚ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40" name="Prostokąt 13"/>
          <p:cNvSpPr/>
          <p:nvPr/>
        </p:nvSpPr>
        <p:spPr>
          <a:xfrm>
            <a:off x="714240" y="164304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żne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est uzasadnienie decyzji o środowiskowych uwarunkowa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12"/>
          <p:cNvSpPr/>
          <p:nvPr/>
        </p:nvSpPr>
        <p:spPr>
          <a:xfrm>
            <a:off x="857160" y="2143080"/>
            <a:ext cx="8001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zasadnienie decyzji o środowiskowych uwarunkowaniach w przypadku gdy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ostała przeprowadzona OOŚ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, niezależnie od wymagań wynikających z Kpa, powinno zawiera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formacje o przeprowadzonym  postępowaniu wymagającym udziału społeczeństwa  oraz o tym, w    jaki sposób zostały wzięte pod uwagę, i w jakim zakresie zostały uwzględnione uwagi i wnioski zgłoszone w związku z udziałem społeczeństw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formacje, w jaki sposób zostały wzięte pod uwagę i w jakim zakresie zostały  uwzględnio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ustalenia zawarte w raporcie OOŚ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uzgodnienia RDOŚ oraz opinie PI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wyniki postępowania w sprawie transgranicznego oddziaływania na środowisko, jeżeli  zostało      przeprowadz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zasadnienie decyzji o środowiskowych uwarunkowaniach w przypadku gdy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nie została przeprowadzona OOŚ,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zależnie od wymagań wynikających z Kpa, powinno zawiera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formacje o uwarunkowaniach, o  których mowa w art. 63 ust. 1 ustawy OOŚ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względnionych przy stwierdzaniu braku potrzeby przeprowadzenia OOŚ przedsięwzięcia na środowisk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upa 8"/>
          <p:cNvGrpSpPr/>
          <p:nvPr/>
        </p:nvGrpSpPr>
        <p:grpSpPr>
          <a:xfrm>
            <a:off x="1000080" y="2571840"/>
            <a:ext cx="7715160" cy="3786120"/>
            <a:chOff x="1000080" y="2571840"/>
            <a:chExt cx="7715160" cy="3786120"/>
          </a:xfrm>
        </p:grpSpPr>
        <p:sp>
          <p:nvSpPr>
            <p:cNvPr id="348" name="AutoShape 15"/>
            <p:cNvSpPr/>
            <p:nvPr/>
          </p:nvSpPr>
          <p:spPr>
            <a:xfrm>
              <a:off x="1000080" y="2571840"/>
              <a:ext cx="7715160" cy="8258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staroście wniosek o pozwolenie na budowę. Załącza raport oraz decyzj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 środowiskowych uwarunkowaniac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6"/>
            <p:cNvSpPr/>
            <p:nvPr/>
          </p:nvSpPr>
          <p:spPr>
            <a:xfrm>
              <a:off x="1000080" y="3879720"/>
              <a:ext cx="7715160" cy="75708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Star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o uzgodnienie do  RDOŚ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wiesza postępowanie do czasu zakończenia oceny oddziaływania na środowisk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7"/>
            <p:cNvSpPr/>
            <p:nvPr/>
          </p:nvSpPr>
          <p:spPr>
            <a:xfrm>
              <a:off x="4656600" y="3535560"/>
              <a:ext cx="4017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3"/>
            <p:cNvSpPr/>
            <p:nvPr/>
          </p:nvSpPr>
          <p:spPr>
            <a:xfrm>
              <a:off x="4656600" y="4705920"/>
              <a:ext cx="4017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24"/>
            <p:cNvSpPr/>
            <p:nvPr/>
          </p:nvSpPr>
          <p:spPr>
            <a:xfrm>
              <a:off x="1000080" y="5118840"/>
              <a:ext cx="7715160" cy="8258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RDOŚ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do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osty o zapewnienie możliwości udziału społeczeństw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iatowego inspektora sanitarnego o opinię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5"/>
            <p:cNvSpPr/>
            <p:nvPr/>
          </p:nvSpPr>
          <p:spPr>
            <a:xfrm>
              <a:off x="4656600" y="6082920"/>
              <a:ext cx="4017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rostokąt 16"/>
          <p:cNvSpPr/>
          <p:nvPr/>
        </p:nvSpPr>
        <p:spPr>
          <a:xfrm>
            <a:off x="857160" y="1357200"/>
            <a:ext cx="82868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awanie decyzji o pozwoleniu na budowę dla przedsięwzięć mogących znacząco oddziaływać na środowisko, dla których w decyzji środowiskowej stwierdzono konieczność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ponownej oceny oddziaływania na środowisko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360" name="Grupa 19"/>
          <p:cNvGrpSpPr/>
          <p:nvPr/>
        </p:nvGrpSpPr>
        <p:grpSpPr>
          <a:xfrm>
            <a:off x="928800" y="1714680"/>
            <a:ext cx="7643880" cy="4371840"/>
            <a:chOff x="928800" y="1714680"/>
            <a:chExt cx="7643880" cy="4371840"/>
          </a:xfrm>
        </p:grpSpPr>
        <p:sp>
          <p:nvSpPr>
            <p:cNvPr id="361" name="AutoShape 26"/>
            <p:cNvSpPr/>
            <p:nvPr/>
          </p:nvSpPr>
          <p:spPr>
            <a:xfrm>
              <a:off x="4557600" y="1714680"/>
              <a:ext cx="385920" cy="277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27"/>
            <p:cNvSpPr/>
            <p:nvPr/>
          </p:nvSpPr>
          <p:spPr>
            <a:xfrm>
              <a:off x="928800" y="2130840"/>
              <a:ext cx="7643880" cy="138780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Star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sięwzięcia i o możliwości zapoznania się z dokumentacją, składania uwa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 wniosków oraz o rozprawie otwartej dla społeczeństwa, jeżeli ma być przeprowadzona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kazuje RDOŚ wnioski i uwagi społeczeństwa oraz protokół z rozprawy, jeżeli został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prowadzo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28"/>
            <p:cNvSpPr/>
            <p:nvPr/>
          </p:nvSpPr>
          <p:spPr>
            <a:xfrm>
              <a:off x="4557600" y="3588120"/>
              <a:ext cx="385920" cy="277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29"/>
            <p:cNvSpPr/>
            <p:nvPr/>
          </p:nvSpPr>
          <p:spPr>
            <a:xfrm>
              <a:off x="928800" y="4074120"/>
              <a:ext cx="7643880" cy="69372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RDOŚ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izuje materiał dowodowy i wydaje postanowienie w sprawie uzgodnienia warun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lizacji przedsięwzięci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0"/>
            <p:cNvSpPr/>
            <p:nvPr/>
          </p:nvSpPr>
          <p:spPr>
            <a:xfrm>
              <a:off x="4557600" y="4837320"/>
              <a:ext cx="385920" cy="277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31"/>
            <p:cNvSpPr/>
            <p:nvPr/>
          </p:nvSpPr>
          <p:spPr>
            <a:xfrm>
              <a:off x="928800" y="5184360"/>
              <a:ext cx="7643880" cy="90216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Star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izuje materiał dowodowy i wydaje decyzję o pozwoleniu na budowę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14"/>
          <p:cNvSpPr/>
          <p:nvPr/>
        </p:nvSpPr>
        <p:spPr>
          <a:xfrm>
            <a:off x="2411280" y="1628640"/>
            <a:ext cx="4608720" cy="14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jenci realizujący  projek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charakterze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nfrastruktural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wymieniony w Aneksie I albo II dyrektywy OOŚ, </a:t>
            </a:r>
            <a:br>
              <a:rPr sz="1400"/>
            </a:b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bądź projekt, który może znacząco wpływać </a:t>
            </a:r>
            <a:br>
              <a:rPr sz="1400"/>
            </a:b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na obszar Natura 2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(grupa I, II lub 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7"/>
          <p:cNvSpPr/>
          <p:nvPr/>
        </p:nvSpPr>
        <p:spPr>
          <a:xfrm rot="5400000">
            <a:off x="4167720" y="3545640"/>
            <a:ext cx="1150920" cy="485640"/>
          </a:xfrm>
          <a:prstGeom prst="rightArrow">
            <a:avLst>
              <a:gd name="adj1" fmla="val 50000"/>
              <a:gd name="adj2" fmla="val 5924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rostokąt 14"/>
          <p:cNvSpPr/>
          <p:nvPr/>
        </p:nvSpPr>
        <p:spPr>
          <a:xfrm>
            <a:off x="2484360" y="458136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ącznik 3.1. (Ia) (wypełniony w pełnym zakresie) i załącznik 3.2. (Ib) oraz dokumentacja z przeprowadzonego screeningu wraz z dokumentacją z przeprowadzonej OOŚ jeżeli była koniecz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4"/>
          <p:cNvSpPr/>
          <p:nvPr/>
        </p:nvSpPr>
        <p:spPr>
          <a:xfrm>
            <a:off x="2268360" y="1628640"/>
            <a:ext cx="4608720" cy="14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cjenci realizujący  projekt o charakterze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infrastrukturalnym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nie wymienionym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w Aneksie I albo II dyrektywy OOŚ,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bądź projekt, który nie wpływa znacząco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na obszar Natura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 rot="5400000">
            <a:off x="4023360" y="3690000"/>
            <a:ext cx="1150920" cy="486000"/>
          </a:xfrm>
          <a:prstGeom prst="rightArrow">
            <a:avLst>
              <a:gd name="adj1" fmla="val 50000"/>
              <a:gd name="adj2" fmla="val 59204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rostokąt 14"/>
          <p:cNvSpPr/>
          <p:nvPr/>
        </p:nvSpPr>
        <p:spPr>
          <a:xfrm>
            <a:off x="2268360" y="465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łącznik 3.1. (Ia) </a:t>
            </a:r>
            <a:r>
              <a:rPr b="1" lang="pl-PL" sz="1800" spc="-1" strike="noStrike">
                <a:solidFill>
                  <a:srgbClr val="990000"/>
                </a:solidFill>
                <a:latin typeface="Arial"/>
              </a:rPr>
              <a:t>(wypełniony w ograniczonym  zakresie)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załącznik 3.2. (Ib) oraz dokumentacja (jeżeli została wyda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88" name="Prostokąt 14"/>
          <p:cNvSpPr/>
          <p:nvPr/>
        </p:nvSpPr>
        <p:spPr>
          <a:xfrm>
            <a:off x="785880" y="164304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Załącznik nr 3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ORMULARZ DO WNIOSKU O DOFINANSOWANIE W ZAKRESIE OCENY ODDZIAŁYWANIA NA ŚRODOWIS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rostokąt 14"/>
          <p:cNvSpPr/>
          <p:nvPr/>
        </p:nvSpPr>
        <p:spPr>
          <a:xfrm>
            <a:off x="785880" y="3071880"/>
            <a:ext cx="835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twórz załącznik nr 3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71680" y="1500120"/>
            <a:ext cx="81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cena Oddziaływania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14240" y="2286000"/>
            <a:ext cx="84297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ożliwia identyfikację istotnych skutków środowiskowych, jakie mogą powstać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oszczególnych fazach realizacji planowanego przedsięwzięcia a w konsekwencji podejmowanie już na etapie planowania, projektowania a następnie realizacji przedsięwzięcia, przemyślanych i odpowiednio dobranych działań mających na celu eliminowanie  wszystkich negatywnych skutków środowiskowych lub ich ograniczanie, jeżeli pełne zapobieganie nie jest możliw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2"/>
          <p:cNvSpPr/>
          <p:nvPr/>
        </p:nvSpPr>
        <p:spPr>
          <a:xfrm>
            <a:off x="785880" y="1500120"/>
            <a:ext cx="8215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ankcje w przypadku niezgod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57160" y="2357280"/>
            <a:ext cx="80010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związku z dofinansowaniem przedsięwzięć ze środków UE należy zapewnić przeprowadzenie  postępowania OOŚ uwzględniając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zasadę pierwszeństwa prawa wspólnotowego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az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obowiązek prowspólnotowej wykładni przepisów prawa kraj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cedura oceny oddziaływania na środowisko przeprowadzona niezgodnie z prawem wspólnotowym oznacza niekwalifikowalność wydatków na daną inwestycj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785880" y="314316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714240" y="2143080"/>
            <a:ext cx="84297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YMAGANIA DYREKTYW UNI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 KONWENCJI MIĘDZYNARODOW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 ZAKRESIE OCEN ODDZIAŁYWANIA NA ŚRODOWIS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642960" y="1571760"/>
            <a:ext cx="8101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ALIZACJA PROJEKTÓW INFRASTRUKTURALNYCH FINANSOWANYCH ZE ŚRODKÓW UNIJNYCH  MUSI BYĆ ZGODNA Z WYMAGANIAMI DYREKTYW UNIJ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57120" y="2500200"/>
            <a:ext cx="8572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85/337/EWG z dnia 27 czerwca 1985r. w sprawie oceny skutków wywieranych przez niektóre przedsięwzięcia publiczne i prywatne na środowisko natural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OOŚ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owelizowana Dyrektywą Rady 97/11/WE z dnia 3 marca 1997r.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OOŚ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92/43/EWG z dnia 21 maja 1992r. w sprawie ochrony siedlisk przyrodniczych oraz dzikiej fauny i flo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Siedliskow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79/409/EWG z dnia 2 kwietnia 1979r. w sprawie ochrony dzikiego ptactw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Ptasi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94" name="Prostokąt 11"/>
          <p:cNvSpPr/>
          <p:nvPr/>
        </p:nvSpPr>
        <p:spPr>
          <a:xfrm>
            <a:off x="571680" y="1701720"/>
            <a:ext cx="81435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2880" indent="-85680" algn="just"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2001/42/WE z dnia 27 czerwca 2001r. w sprawie  oceny wpływu niektórych planów i programów na środowisko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SOO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2003/4/WE z dnia 28 stycznia 2003r. w sprawie publicznego dostępu do informacji dotyczących środowiska i uchylająca dyrektywę Rady 90/313/EW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2003/35/WE z dnia z dnia 26 maja 2003r. przewidująca udział społeczeństwa w odniesieniu do sporządzania niektórych planów i programów w zakresie środowiska oraz zmieniająca w odniesieniu do udziału społeczeństwa o dostępu do wymiaru sprawiedliwości dyrektywy Rady 85/337/EWG i 96/61/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42960" y="32860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LUCZOWE AKTY PRAWA KRAJ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6"/>
          <p:cNvSpPr/>
          <p:nvPr/>
        </p:nvSpPr>
        <p:spPr>
          <a:xfrm>
            <a:off x="501480" y="164304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DSTAWOWE AKTY PRAWA KRAJ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42960" y="200016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7624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tawa z dnia 27 kwietnia 2001r. Prawo ochrony środowis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j. Dz. U.  z 2008r. Nr 25, poz. 150 i Nr 111, poz. 708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zepisy dotyczące postępowania w sprawie oceny oddziaływania na środowisko obowiązywały do dni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listopada 2008r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tawa z dnia 3 października 2008r. o udostępnianiu informacji o środowisku  i jego ochronie, udziale społeczeństwa w ochronie środowiska oraz ocenach oddziaływania na środowisk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z. U. z 2008r. Nr 199, poz. 1227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zepisy dotyczące postępowania w sprawie oceny oddziaływania na środowisko obowiązujące od dnia 15 listopada 2008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9:05:53Z</dcterms:created>
  <dc:creator>monika.stanczak</dc:creator>
  <dc:description/>
  <dc:language>en-US</dc:language>
  <cp:lastModifiedBy>x</cp:lastModifiedBy>
  <dcterms:modified xsi:type="dcterms:W3CDTF">2009-10-21T21:49:55Z</dcterms:modified>
  <cp:revision>39</cp:revision>
  <dc:subject/>
  <dc:title>Slajd 1</dc:title>
</cp:coreProperties>
</file>